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098-8A16-4E5F-B3DC-E2E72C3C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4D2-6098-42E9-A13C-182A59D5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1C0-8594-48B7-9C43-696FB25E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062-16BB-4155-86DB-B1C585C8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8588-7720-412A-B49D-E5856669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3F1-A1A6-4DEE-8AF7-C21997FC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03AE-B362-49DC-9E05-67B25DE5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B5E3-5AB9-4747-958A-1F9E00CF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A506-FFCD-46C7-B5D7-268C0847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FC8E-8532-4C6B-BBF0-EA8E239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0D5-AA7E-4D5C-A3BA-C981BF3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D15-0041-468A-8FBE-B7F4C885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B5A-1753-488B-9068-F2093BD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8F1-E4B7-47F3-BA47-F4C3C76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9A4-9E0C-43B2-BFE5-1A2042E7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0D9A-11AF-4284-A65B-2D91005C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B485-7716-4A9A-9768-D3AFAEB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070-F763-44EE-BA59-5CF28CC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316-A887-49B1-916A-FDC09633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A98-0FF9-4C55-B8E5-CF20D8C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B91-4958-41DE-B87E-D6B64950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AA7-DE02-404B-BE4C-E65118D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728-9965-4192-BFBD-9368F17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2E7-2FAF-4AC7-93DA-7B19E56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9EF4-5E68-4A69-BB0B-103AC08EAA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7727-0315-4DD2-87C2-78217B41B6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-Ass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2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4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+ 3 when x =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15 + 9 ÷ 3 – 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2 ● 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72000" y="4267080"/>
                <a:ext cx="419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71800" y="5105520"/>
                <a:ext cx="1571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-Ass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5 + 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when x = 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8 ÷ 2 – 4 + 1 ●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3 ● 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÷ (12 – 8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71800" y="4419720"/>
                <a:ext cx="23623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der of Oper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, Section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tudent will be able to correctly evaluate three out of four expressions using the correct order of oper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der of Oper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29936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9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v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btr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3733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4290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5880" y="34606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gether,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29000" y="51811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64832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3120" y="49528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gether,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057400"/>
            <a:ext cx="754380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 when x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for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n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1752480"/>
            <a:ext cx="2819520" cy="457200"/>
          </a:xfrm>
          <a:custGeom>
            <a:avLst/>
            <a:gdLst/>
            <a:ahLst/>
            <a:rect l="l" t="t" r="r" b="b"/>
            <a:pathLst>
              <a:path w="1680" h="200">
                <a:moveTo>
                  <a:pt x="1680" y="152"/>
                </a:moveTo>
                <a:cubicBezTo>
                  <a:pt x="1340" y="76"/>
                  <a:pt x="1000" y="0"/>
                  <a:pt x="720" y="8"/>
                </a:cubicBezTo>
                <a:cubicBezTo>
                  <a:pt x="440" y="16"/>
                  <a:pt x="220" y="108"/>
                  <a:pt x="0" y="2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029200"/>
            <a:ext cx="12956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276720"/>
            <a:ext cx="4572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8098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057400"/>
            <a:ext cx="75438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9 ÷ 3 – 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3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tra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886200"/>
            <a:ext cx="12956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057400"/>
            <a:ext cx="11430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6668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48320" y="3200400"/>
                <a:ext cx="43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34120" y="1752480"/>
                <a:ext cx="431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85800" y="2057400"/>
            <a:ext cx="75438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● 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on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● 9 +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ultip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8 +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vi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8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724280"/>
            <a:ext cx="12952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057400"/>
            <a:ext cx="6094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74320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81480" y="2590920"/>
                <a:ext cx="43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572000" y="3200400"/>
            <a:ext cx="60948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2514600"/>
                <a:ext cx="1067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3809880"/>
                <a:ext cx="838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05320" y="1828800"/>
                <a:ext cx="1218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09480" y="1905120"/>
            <a:ext cx="4267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5410080"/>
            <a:ext cx="6094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752480"/>
            <a:ext cx="60984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505320"/>
            <a:ext cx="76212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81280" y="3200400"/>
                <a:ext cx="1067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09880" y="457200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86200" y="5410080"/>
                <a:ext cx="270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657600" y="4267080"/>
            <a:ext cx="7621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84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2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- 5 when x =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24 - 6 ● 3 + 4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(3 + 5)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– 12 ÷ 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71800" y="4495680"/>
                <a:ext cx="19051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3:01:15Z</dcterms:created>
  <dc:creator>mdavenport</dc:creator>
  <dc:description/>
  <dc:language>en-US</dc:language>
  <cp:lastModifiedBy>Connie Dolezal</cp:lastModifiedBy>
  <dcterms:modified xsi:type="dcterms:W3CDTF">2008-08-16T22:47:14Z</dcterms:modified>
  <cp:revision>69</cp:revision>
  <dc:subject/>
  <dc:title>Solving Addition/Subtraction Equations</dc:title>
</cp:coreProperties>
</file>